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0.wmf" ContentType="image/x-wmf"/>
  <Override PartName="/ppt/media/image7.jpeg" ContentType="image/jpeg"/>
  <Override PartName="/ppt/media/image6.png" ContentType="image/png"/>
  <Override PartName="/ppt/media/image3.gif" ContentType="image/gif"/>
  <Override PartName="/ppt/media/image18.jpeg" ContentType="image/jpeg"/>
  <Override PartName="/ppt/media/image17.png" ContentType="image/png"/>
  <Override PartName="/ppt/media/camera.wav" ContentType="audio/x-wav"/>
  <Override PartName="/ppt/media/projctor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806-EE5F-45AB-9D04-50A4B416293F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8941-7DB5-448E-9FBE-9CD5B7651332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1141-F496-4B33-8479-BF5A071B391C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8AB5-18ED-4465-8CEC-9FCF8BD2A2A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EE4-0709-40EF-B598-11869C4F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AAD-E78E-4FB5-917F-C4805C19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DE0-2B8D-4AA8-BAC4-2DC9F5FD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EC7-EB19-4149-865C-624153AC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AC0A-1DF8-4072-B4FE-879B7824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278D-4560-480A-A2C3-C6686A4B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2AB8-FCFA-4A96-A421-65A75739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236F-F213-4722-9CA7-0AC9ACC6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ACEE-BFB5-4EE7-A6DA-0CA99E12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6E63-009C-4839-A940-198CBB6C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1B4C-6B83-41E4-9627-0226CBD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7E8-F59E-484D-B6CE-C6BD1EA0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34E5-A8ED-463B-96D6-13F63B70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F20C-6185-449B-A697-33AA70E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D77A-7C1A-4EC8-BABD-08D8E34F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6EFA-3405-4F9D-ACF4-1240C1F6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8C0F-D448-45B0-BA1E-9A1A4807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0CD-CB77-4038-8549-853DCAA3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AA3-C6A6-4E7E-B69E-65EB386F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9A2-0A3D-4847-AE32-A4844911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56A-4978-4128-B4F9-E3BEC4DF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123-432F-43E0-8FBA-7F1FEE1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B03-1C0A-4E2C-A922-94A41B2C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20B-21B2-468A-8E1E-9421AF7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BAAA-26A4-4713-BCD4-53D7F246C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AF4A-3003-44CD-9E99-EA9271BBFA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arner.org/courses/essential/physicalsci/images/s4.dalton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o/imgres?imgurl=http://www.csvt.qc.ca/patriotes/sciences/scp4/photos_m1/06becquerel.gif&amp;imgrefurl=http://www.csvt.qc.ca/patriotes/sciences/scp4/photos_m1/page1.html&amp;usg=__QGOmXRlne2eTQ2mRo6B79H5nzZY=&amp;h=277&amp;w=242&amp;sz=23&amp;hl=ro&amp;start=3&amp;um=1&amp;tbnid=aD2JVNAV9BnEZM:&amp;tbnh=114&amp;tbnw=100&amp;prev=/images%3Fq%3Dbecquerel%26hl%3Dro%26rlz%3D1R2ADBF_en%26sa%3DN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ro/imgres?imgurl=http://www.patent-invent.com/electricity/images/jj_thomson.jpg&amp;imgrefurl=https://reich-chemistry.wikispaces.com/Mike%2BD.%2BBig%2BTimeline%2Bproject&amp;usg=__mbVQil3pWDTyWF8e7aYZKvz2Azg=&amp;h=310&amp;w=270&amp;sz=17&amp;hl=ro&amp;start=3&amp;tbnid=mta0DJTSHEynRM:&amp;tbnh=117&amp;tbnw=102&amp;prev=/images%3Fq%3Dthomson%26gbv%3D2%26hl%3Dro%26sa%3DG" TargetMode="External"/><Relationship Id="rId6" Type="http://schemas.openxmlformats.org/officeDocument/2006/relationships/image" Target="../media/image9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images.google.ro/imgres?imgurl=http://www.chemheritage.org/classroom/chemach/images/lgfotos/05atomic/rutherford1.jpg&amp;imgrefurl=http://www.chemheritage.org/classroom/chemach/pop/05atomic/rutherford1.html&amp;usg=__YnVDEvkf-GP80LP8lJpp_Mu5W58=&amp;h=424&amp;w=300&amp;sz=41&amp;hl=ro&amp;start=5&amp;tbnid=7SA9jUuZ4KV6kM:&amp;tbnh=126&amp;tbnw=89&amp;prev=/images%3Fq%3Drutherford%26gbv%3D2%26hl%3Dro%26sa%3D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chimes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216400" y="333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WordArt 26"/>
          <p:cNvSpPr txBox="1"/>
          <p:nvPr/>
        </p:nvSpPr>
        <p:spPr>
          <a:xfrm>
            <a:off x="1403280" y="1125360"/>
            <a:ext cx="7500960" cy="26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TOMUL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E INTRODUCE INTR-O LUME INVIZIBILA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 PARTICOLE SI ENERGI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28"/>
          <p:cNvSpPr txBox="1"/>
          <p:nvPr/>
        </p:nvSpPr>
        <p:spPr>
          <a:xfrm>
            <a:off x="785880" y="4786200"/>
            <a:ext cx="4857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f. MARTINI ERIK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Picture 29" descr="atom"/>
          <p:cNvPicPr/>
          <p:nvPr/>
        </p:nvPicPr>
        <p:blipFill>
          <a:blip r:embed="rId1"/>
          <a:stretch/>
        </p:blipFill>
        <p:spPr>
          <a:xfrm>
            <a:off x="6804000" y="4292640"/>
            <a:ext cx="213372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6642000" y="110340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Georgia"/>
              </a:rPr>
              <a:t>Fiecare atom este car</a:t>
            </a:r>
            <a:r>
              <a:rPr b="1" lang="ro-RO" sz="29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Georgia"/>
              </a:rPr>
              <a:t>cterizat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Georgia"/>
              </a:rPr>
              <a:t> de două numere: </a:t>
            </a:r>
            <a:r>
              <a:rPr b="1" lang="en-US" sz="2900" spc="-1" strike="noStrike">
                <a:solidFill>
                  <a:srgbClr val="ffff00"/>
                </a:solidFill>
                <a:latin typeface="Georgia"/>
              </a:rPr>
              <a:t>Z şi A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4"/>
              <p:cNvSpPr txBox="1"/>
              <p:nvPr/>
            </p:nvSpPr>
            <p:spPr>
              <a:xfrm>
                <a:off x="3286080" y="1357200"/>
                <a:ext cx="278604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Dreptunghi 3"/>
          <p:cNvSpPr/>
          <p:nvPr/>
        </p:nvSpPr>
        <p:spPr>
          <a:xfrm>
            <a:off x="642960" y="342900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i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aceluiasi element care au un numar diferit de neutroni se numesc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ZOTO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6072120" y="5000760"/>
                <a:ext cx="17002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5"/>
              <p:cNvSpPr txBox="1"/>
              <p:nvPr/>
            </p:nvSpPr>
            <p:spPr>
              <a:xfrm>
                <a:off x="1428840" y="5000760"/>
                <a:ext cx="178596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3786120" y="5000760"/>
                <a:ext cx="17956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30000">
    <p:blinds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tomii cu acelasi numar de protoni alcatuiesc u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ELEMENT CHIMIC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lementele se  noteaza cu simboluri chimic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-fosfor           Al-aluminiu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-iod                 F-fosfor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-sulf               O-oxigen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-iod                N-azot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-calciu         S-sulf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-oxigen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oprietatile elementelor sunt functii periodice ale sarcinii nuclear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1680" y="171468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lecand de la acest concept s-a nascut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SISTEMUL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31" name="Picture 7" descr="http://www.didactice.ro/imagini_produse/sistem_periodic.jpg"/>
          <p:cNvPicPr/>
          <p:nvPr/>
        </p:nvPicPr>
        <p:blipFill>
          <a:blip r:embed="rId1"/>
          <a:stretch/>
        </p:blipFill>
        <p:spPr>
          <a:xfrm>
            <a:off x="2357280" y="3643200"/>
            <a:ext cx="432288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491a"/>
                </a:solidFill>
                <a:latin typeface="Georgia"/>
              </a:rPr>
              <a:t>Atomi,izotopi,elemente chimice,molecule…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Incercam sa le cunoastem, dar ne punem intrebarea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ATOMUL NE ESTE PRIETEN SAU     DUSMAN?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tomul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distrugator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lul atomic a inceput cu bombele atomice.Planeta s-a cutremurat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 august 1945, prima bomba atomica transportata la bordul bombardierului americanB-29 “Enola Gay” a transformat Hiroshima intr-un morman de ruine fara viat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upa trei zile ciuperca otravitoare a exploziei atomice a crescut deasupra unui alt oras japonez Nagasaki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tomul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gronom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Pentru a distruge insectele daunatoar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 microorganismele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 care produc pagube semnificative agric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urii se folosesc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adiatiile gam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tfel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, dupa iradierea gam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 cartoful se poate pastra cu succes aproape doi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tomul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chimist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adiatiile radioactive reprezinta un mijloc cu adevarat miraculos in mainile chimistului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Sub actiunea lor se produc metamorfoze uimitoare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zaharul se transforma in acid, uleiul de ricin se solidifica, pielea devine impermeabilă,benzenul se combina cu clorul dand un insecticid foarte eficace,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parafina se schimbă intr-o substantă asemanatoare ca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iucului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tomul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inginer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ste de ajutor in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Defectoscopia gam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Masurarea lichidului in rezervoare inchis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Determinarea uzurii instrumentelor de taier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onstatarea scurgerilor de gaz din conductele subteran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Verificarea captuselii refractare cu care este captusia gura incalzita a furnalului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autarea unor surse de aprovizionare cu apă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ontrolul innămolirii porturilor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Neutralizarea sarcinilor electricitatii statice care prezintă pericole de incend</a:t>
            </a:r>
            <a:r>
              <a:rPr b="0" lang="ro-RO" sz="2400" spc="-1" strike="noStrike">
                <a:solidFill>
                  <a:srgbClr val="ffffff"/>
                </a:solidFill>
                <a:latin typeface="Georgia"/>
              </a:rPr>
              <a:t>i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Am reusit sa deschidem usita spre lumea invizibila din interiorul materiei?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in nou DA!-in 28 august 2009 s-a fotografiat pentru prima data o MOLECULA cu ajutorul unui microscop atom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6" name="Picture 4" descr="hydrogenani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990720" y="0"/>
          <a:ext cx="7162560" cy="689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16256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2317680" y="0"/>
          <a:ext cx="6826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7680" y="0"/>
                    <a:ext cx="682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blinds dir="horz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55240" y="1905120"/>
            <a:ext cx="6488280" cy="17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STE POSIBIL SA </a:t>
            </a:r>
            <a:r>
              <a:rPr b="0" lang="ro-RO" sz="3200" spc="-1" strike="noStrike">
                <a:solidFill>
                  <a:srgbClr val="000000"/>
                </a:solidFill>
                <a:latin typeface="Georgia"/>
              </a:rPr>
              <a:t> EXPLORA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 </a:t>
            </a:r>
            <a:r>
              <a:rPr b="0" lang="ro-RO" sz="3200" spc="-1" strike="noStrike">
                <a:solidFill>
                  <a:srgbClr val="000000"/>
                </a:solidFill>
                <a:latin typeface="Georgia"/>
              </a:rPr>
              <a:t> LUME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Georgia"/>
              </a:rPr>
              <a:t> INVIZIBILA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3" name="Picture 8" descr="x8"/>
          <p:cNvPicPr/>
          <p:nvPr/>
        </p:nvPicPr>
        <p:blipFill>
          <a:blip r:embed="rId1"/>
          <a:stretch/>
        </p:blipFill>
        <p:spPr>
          <a:xfrm>
            <a:off x="684360" y="4005360"/>
            <a:ext cx="251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A!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 EI AU INCEPUT PROCESUL.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85920" y="1642680"/>
            <a:ext cx="74008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Georgi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J. Dalton deja in1808 explica unele experimente pe baza notiunii de ATOM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. Bequerel (1896)a descoperit radioactivitatea,  emiterea de particule de catre atomi. 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J. J. Thomson(1897) a identificat ELECTRONUL  si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descris atomul ca o sfera alcatuita din particule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carcate electric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6" name="Picture 12" descr="Vedeţi imaginea la dimensiunea complet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06becquere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2924280"/>
            <a:ext cx="952560" cy="1085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jj_thoms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221000"/>
            <a:ext cx="971640" cy="111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900000" y="54936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*Rutherford (1908) a realizat modelul planetar al atomului pentru care a primit Premiul Nobel, iar in 1911 a descoperit PROTONU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*Niels Bohr(1913) a imaginat atomul ca fiind asemanator sistemului s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Heisenberg si colaboratorii in 1930 au propus un model atomic in care e</a:t>
            </a: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tronii sunt plasati pe anumite nivele  energeti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*In  1932  Chodwich  a identificat  NEUTRON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E. Rusko (1986)a inventat primul microscop elect</a:t>
            </a: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ro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ic, cu care se pot studia atom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hm00363_"/>
          <p:cNvPicPr/>
          <p:nvPr/>
        </p:nvPicPr>
        <p:blipFill>
          <a:blip r:embed="rId1"/>
          <a:stretch/>
        </p:blipFill>
        <p:spPr>
          <a:xfrm>
            <a:off x="6794640" y="4724280"/>
            <a:ext cx="2349360" cy="235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rutherford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47628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bohr"/>
          <p:cNvPicPr/>
          <p:nvPr/>
        </p:nvPicPr>
        <p:blipFill>
          <a:blip r:embed="rId4"/>
          <a:stretch/>
        </p:blipFill>
        <p:spPr>
          <a:xfrm>
            <a:off x="5724360" y="1700280"/>
            <a:ext cx="924120" cy="11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Vedeţi imaginea la dimensiunea completă"/>
          <p:cNvPicPr/>
          <p:nvPr/>
        </p:nvPicPr>
        <p:blipFill>
          <a:blip r:embed="rId5"/>
          <a:stretch/>
        </p:blipFill>
        <p:spPr>
          <a:xfrm>
            <a:off x="5867280" y="3068640"/>
            <a:ext cx="61920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Vedeţi imaginea la dimensiunea completă"/>
          <p:cNvPicPr/>
          <p:nvPr/>
        </p:nvPicPr>
        <p:blipFill>
          <a:blip r:embed="rId6"/>
          <a:stretch/>
        </p:blipFill>
        <p:spPr>
          <a:xfrm>
            <a:off x="5796000" y="4005360"/>
            <a:ext cx="609480" cy="76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RuscoElmer"/>
          <p:cNvPicPr/>
          <p:nvPr/>
        </p:nvPicPr>
        <p:blipFill>
          <a:blip r:embed="rId7"/>
          <a:stretch/>
        </p:blipFill>
        <p:spPr>
          <a:xfrm>
            <a:off x="5796000" y="4941720"/>
            <a:ext cx="71424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8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Georgia"/>
              </a:rPr>
              <a:t>ATOMUL,cea mai mica particola care mai pastreaza proprietatile elementelor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37712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este scindat numai prin procedee fizic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articipa efectiv in procesele chimic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Georgia"/>
              </a:rPr>
              <a:t>are o structura complexă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18" name="Picture 4" descr="atom315"/>
          <p:cNvPicPr/>
          <p:nvPr/>
        </p:nvPicPr>
        <p:blipFill>
          <a:blip r:embed="rId1"/>
          <a:stretch/>
        </p:blipFill>
        <p:spPr>
          <a:xfrm>
            <a:off x="3143160" y="4500720"/>
            <a:ext cx="3071880" cy="19843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77"/>
          <p:cNvSpPr txBox="1"/>
          <p:nvPr/>
        </p:nvSpPr>
        <p:spPr>
          <a:xfrm>
            <a:off x="1116000" y="0"/>
            <a:ext cx="48387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cepem sa cunoastem structura atomului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Picture 23" descr="nedenumit777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6:41:23Z</dcterms:created>
  <dc:creator>Personal</dc:creator>
  <dc:description/>
  <dc:language>en-US</dc:language>
  <cp:lastModifiedBy>user</cp:lastModifiedBy>
  <dcterms:modified xsi:type="dcterms:W3CDTF">2010-05-25T21:57:59Z</dcterms:modified>
  <cp:revision>83</cp:revision>
  <dc:subject/>
  <dc:title>Atomul .Structura atomulu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